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26A69-EE47-4951-9DDE-05ECDE74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3F048-1A73-4A6B-8916-DB8D4017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2C433-41E7-4580-B314-712CF66F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C9072-14AE-4417-98F6-65902E62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BB15-761C-4679-8A2E-49F30CFD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83CF-DB28-42C5-BCDA-DB5752D0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EE7D-BF0C-4FC7-81A3-1DE8CC9B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3FCF-7639-472C-93EB-64EDD5F1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EA06-A3DA-4448-865D-B229F62D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D98D-8597-4425-9021-94EBC724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DB4B-F5D7-48C3-8952-379B07A8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42CAC-E4E9-4410-92C6-41ABF448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63B2-7AF2-4BFC-8471-EF216950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14B3-0B2E-4C67-8046-52216168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FAF3-4824-4FF2-97B0-0DCAFE35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C2CE-9F49-45A2-A8D8-24BAF081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9308-725A-4B41-B55F-1628FFC8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C4106-6960-4F03-B431-314AC2AC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147D7-B584-4B10-B914-87459877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EFEF2-CF13-4888-9B8F-CCE9A134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60831-A718-4DE8-89CB-259F30A6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72B58-3EB1-4411-9E3B-9F78D248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5A2B6-7E8D-4044-8091-4FD63B59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223BD-1DAD-423C-A5AD-D95C5E0A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B490-7784-4A03-A0C1-A87F86F896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9E2A-1D1A-4D87-88F9-5501BDEF84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39640" y="1828800"/>
            <a:ext cx="6651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a Contaminación Acústica en mi entorno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rián Arroyo, Enrique Arias y Raúl Izquierdo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s que ocasi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829152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problemas que ocasiona un exceso de ruido son diversos. Son gener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tornos de su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ermedades cardiovasc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as agres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érdida de capacidad aud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icultad de 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2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bien la mayoría de acciones no podemos modificarlas, hay algunas que s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jar el sonido de los auricu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tar hablar en un tono más 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tenimiento de los co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parte de las autor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er en cuenta el ruido al diseñar zonas urbaníst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s de educación ambien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Valladolid ¿cómo está de rui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 gráfica nos muestra el nivel de ruido de Españ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4489200" cy="3527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0920" y="3284640"/>
            <a:ext cx="345744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ey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CENTAJE DE VIVIENDAS CON PROBLEDMAS DE RUIDO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≤ 20 %: Amarill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&lt; % ≤ 30: Verd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 &lt; % ≤ 40: Magen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 40 %:Ro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411280" y="3860640"/>
            <a:ext cx="3384720" cy="936720"/>
          </a:xfrm>
          <a:prstGeom prst="line">
            <a:avLst/>
          </a:prstGeom>
          <a:ln w="25560">
            <a:solidFill>
              <a:srgbClr val="8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Y más centrad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barrios más ruidosos son los que dan a la ronda, pero también los barrios céntricos pues los bares de copas y discotecas están abiertos hasta muy tar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que vivan en un pueblo/urbanización generalmente tienen menos ruido, pero hay excepciones como Peñafiel donde la nacional 122 pasa por el centro del pueb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obras que se produzcan en un determinado momento provocan más ruido de lo habit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75964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56000" y="981000"/>
            <a:ext cx="21603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620640"/>
            <a:ext cx="144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5148360" y="3573360"/>
            <a:ext cx="1295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51640" y="49417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. San Cristó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788000" y="1052640"/>
            <a:ext cx="79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692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ond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4572000" y="3284640"/>
            <a:ext cx="7128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5157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Del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84360" y="1916280"/>
            <a:ext cx="208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19280" y="19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po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1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éditos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rián Arro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aúl Izquie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rique 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úsica: Ale Garófalo, The Giant T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problemas diarios de la contaminación acústic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435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ario tenemos problemas con la contaminación acústica y estos son los principales ru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á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ida de bas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e acondicio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re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la proporción de la tabla sigu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ráfico rodado supone 80 decibelios, sin embargo si hay una motocicleta sin silenciador el ruido puede superar los 110 decibel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Valladolid los mayores atascos se producen en la ronda, la glorieta de San Agustín y en la A-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680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 hay excepcion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norma general los coches más modernos emiten menos ruidos, incluso el coche eléctrico o el híbrido emiten muchos menos decibel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042920" y="1197000"/>
            <a:ext cx="33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camiones emiten 80 decibelios, sin embargo en nuestra ciudad no pueden entrar en zona urbana los vehículos de más de 12 tonel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580000" y="33336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legislación actual dice que los coches deben emitir menos de 70 dB. Un coche normal emite 50 d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89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187280" y="98100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Un coche híbrido como este puede emitir en modo eléctrico 20 d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659640" y="2421000"/>
            <a:ext cx="4334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4720" y="213372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a de vehículo híbr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s ruidos control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la televisión, la radio, el MP3 podemos regular el volumen. Lo ideal sería al nivel de conversación humana, 50 d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1866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4000680"/>
            <a:ext cx="4038480" cy="2597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voz hu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paña tradicionalmente es un país donde se habla muy alto y se grita mucho. En el instituto pasillos y clases tienen un ruido muy superior a los 55 dB máximos según la 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780000" y="69228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92360" y="549360"/>
            <a:ext cx="2374920" cy="172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24360" y="76500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OMS recomienda un máximo de 55 d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2637000"/>
            <a:ext cx="2016000" cy="180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2781360"/>
            <a:ext cx="180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¿Ah sí? Pues en España el límite en zonas urbanas es 6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240"/>
                            </p:stCondLst>
                            <p:childTnLst>
                              <p:par>
                                <p:cTn id="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240"/>
                            </p:stCondLst>
                            <p:childTnLst>
                              <p:par>
                                <p:cTn id="8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ros ruidos comunes y decibel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484280"/>
          <a:ext cx="8229600" cy="3629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an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urran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liote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irador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llo Neumátic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d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468360" y="537372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 partir de de 128 dB el ruido llega al umbral del d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5:27:53Z</dcterms:created>
  <dc:creator>julian</dc:creator>
  <dc:description/>
  <dc:language>en-US</dc:language>
  <cp:lastModifiedBy>julian</cp:lastModifiedBy>
  <dcterms:modified xsi:type="dcterms:W3CDTF">2011-10-05T18:50:51Z</dcterms:modified>
  <cp:revision>3</cp:revision>
  <dc:subject/>
  <dc:title>La Contaminación Acústica en mi entorn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