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14FD1-88FC-4B9C-A49A-1D276419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B83A7-B42D-41A3-A41A-CB5AEBAC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41081-8821-4BC6-B57B-3ACDC509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C8E7E-EB63-43C6-A2DD-362AC2AC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D0FC-66FD-4148-AD4F-3283CBBB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B2CB-8F1D-4B0A-A5FD-D9FA374E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9D1D-EACD-4AB4-9BB8-1605DCEF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B259-E3D5-4A6D-BBFB-9CDAEB02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ABEB-060F-43ED-B71B-2E48D704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27FF-8C98-4675-9BD1-3F3E523C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F1C8-CB31-437E-8999-463F1685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F467F-3EEA-4277-B250-C512E85F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E397-DC00-49B8-95CB-77FB0678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05F3-8003-4014-944D-942A3931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6F88-E4C0-441A-A5CE-54C90504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3D46-562E-4B72-9334-DCE27DFC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E7BD-DDC1-4C0D-8591-0A4BEA48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3FF7-B993-470F-BE2A-FCE0B412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DD463-EAE0-47F6-9A31-17507356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37D9F-33D5-4597-A588-26484868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5C68D-9DC0-4EE3-A06F-4E857EBD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451E6-50E4-4AB0-AB22-6BC3B29C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FEFD5-C9C9-4856-924B-31AD6096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B47D6-FCFF-4FEB-A50F-C4D438C9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0929-9370-482D-8CDF-983E635BDA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03E6-C68D-40AD-AEE9-3746B2F6CE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39640" y="1828800"/>
            <a:ext cx="6651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a Contaminación Acústica en mi entorno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rián Arroyo, Enrique Arias y Raúl Izquierdo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s que ocasi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problemas que ocasiona un exceso de ruido son diversos. Son gener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tornos de su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ermedades cardiovascu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as agres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érdida de capacidad aud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icultad de 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2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bien la mayoría de acciones no podemos modificarlas, hay algunas que s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jar el sonido de los auricu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tar hablar en un tono más 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tenimiento de los co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parte de las autor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er en cuenta el ruido al diseñar zonas urbaníst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s de educación ambien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Valladolid ¿cómo está de rui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 gráfica nos muestra el nivel de ruido de Españ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4489200" cy="3527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0920" y="3284640"/>
            <a:ext cx="345744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y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CENTAJE DE VIVIENDAS CON PROBLEDMAS DE RUIDO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≤ 20 %: Amarill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&lt; % ≤ 30: Verd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 &lt; % ≤ 40: Magen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 40 %:Ro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411280" y="3860640"/>
            <a:ext cx="3384720" cy="936720"/>
          </a:xfrm>
          <a:prstGeom prst="line">
            <a:avLst/>
          </a:prstGeom>
          <a:ln w="25560">
            <a:solidFill>
              <a:srgbClr val="8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Y más centrad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barrios más ruidosos son los que dan a la ronda, pero también los barrios céntricos pues los bares de copas y discotecas están abiertos hasta muy tar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que vivan en un pueblo/urbanización generalmente tienen menos ruido, pero hay excepciones como Peñafiel donde la nacional 122 pasa por el centro del pueb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obras que se produzcan en un determinado momento provocan más ruido de lo habit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75964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56000" y="981000"/>
            <a:ext cx="21603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620640"/>
            <a:ext cx="144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5148360" y="3573360"/>
            <a:ext cx="1295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51640" y="4941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 San Cristó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788000" y="1052640"/>
            <a:ext cx="79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ond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4572000" y="3284640"/>
            <a:ext cx="7128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5157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Del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84360" y="1916280"/>
            <a:ext cx="208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19280" y="19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po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édito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rián Arro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aúl Izquie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rique 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úsica: Ale Garófalo, The Giant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problemas diarios de la contaminación acústic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435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ario tenemos problemas con la contaminación acústica y estos son los principales ru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á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ida de bas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e acondicio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re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la proporción de la tabla sigu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ráfico rodado supone 80 decibelios, sin embargo si hay una motocicleta sin silenciador el ruido puede superar los 110 decibe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Valladolid los mayores atascos se producen en la ronda, la glorieta de San Agustín y en la A-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 hay excepcion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norma general los coches más modernos emiten menos ruidos, incluso el coche eléctrico o el híbrido emiten muchos menos decibel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42920" y="1197000"/>
            <a:ext cx="33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camiones emiten 80 decibelios, sin embargo en nuestra ciudad no pueden entrar en zona urbana los vehículos de más de 12 tonel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580000" y="33336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legislación actual dice que los coches deben emitir menos de 70 dB. Un coche normal emite 50 d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489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187280" y="98100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 coche híbrido como este puede emitir en modo eléctrico 20 d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659640" y="2421000"/>
            <a:ext cx="4334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4720" y="213372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a de vehículo híbr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ruidos control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la televisión, la radio, el MP3 podemos regular el volumen. Lo ideal sería al nivel de conversación humana, 50 d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1866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4000680"/>
            <a:ext cx="4038480" cy="2597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oz hu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paña tradicionalmente es un país donde se habla muy alto y se grita mucho. En el instituto pasillos y clases tienen un ruido muy superior a los 55 dB máximos según la 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780000" y="6922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549360"/>
            <a:ext cx="2374920" cy="172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76500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OMS recomienda un máximo de 55 d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2637000"/>
            <a:ext cx="2016000" cy="180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2781360"/>
            <a:ext cx="180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Ah sí? Pues en España el límite en zonas urbanas es 6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240"/>
                            </p:stCondLst>
                            <p:childTnLst>
                              <p:par>
                                <p:cTn id="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240"/>
                            </p:stCondLst>
                            <p:childTnLst>
                              <p:par>
                                <p:cTn id="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ros ruidos comunes y decibel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484280"/>
          <a:ext cx="8229600" cy="3629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an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urran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liote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irador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llo Neumátic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468360" y="537372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 partir de de 128 dB el ruido llega al umbral del d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5:27:53Z</dcterms:created>
  <dc:creator>julian</dc:creator>
  <dc:description/>
  <dc:language>en-US</dc:language>
  <cp:lastModifiedBy>julian</cp:lastModifiedBy>
  <dcterms:modified xsi:type="dcterms:W3CDTF">2011-10-05T18:50:51Z</dcterms:modified>
  <cp:revision>3</cp:revision>
  <dc:subject/>
  <dc:title>La Contaminación Acústica en mi entorn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